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7.png" ContentType="image/pn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3E6E-6E73-4E1B-B374-4A42DB03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832A-1C0C-46AE-873D-E2EE6B07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9E0-C90E-4219-9F0A-62E225B1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8C2-2189-410A-A908-262E67C8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BDB-7D37-4B5C-8F48-B70D6337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05C-8274-4F8B-85D7-475F1F7E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7F3-0B7B-427E-838C-736F0785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5C0-C229-4EEB-BAA6-FE3B098B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821-CD4E-4987-A888-2619713F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17E-0C9A-4ADE-BB18-E600025B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705-A0E3-44C7-B179-73340146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F12-C725-445F-9843-66F82AC4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83C-02C7-4855-A31E-21E523C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B93-469F-4C88-8407-9EC0259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A092-32F5-4A9E-9554-7B26E7905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8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108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1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1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OOKS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91598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9144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62120" y="1523880"/>
            <a:ext cx="7696080" cy="739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543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 </cp:lastModifiedBy>
  <dcterms:modified xsi:type="dcterms:W3CDTF">2009-01-28T19:26:26Z</dcterms:modified>
  <cp:revision>118</cp:revision>
  <dc:subject/>
  <dc:title>Museum of World Stuff</dc:title>
</cp:coreProperties>
</file>